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87C-6C49-48A6-B5A6-596FEDC7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3B19-8614-4F99-BF62-876664CE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ECE-9AD7-4DB2-B998-A2DB8FF9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E97-1E21-46C7-BF4C-9A95308B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8E02-177F-4153-8B5B-EE2FC605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B53C-D013-4783-AE03-2679621D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244C-53AB-4201-9A51-2CB39D5E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649B-9CE6-4AD2-9D65-18D21965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A5D3-3BF0-4328-97A5-65BCE237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885D-F988-454D-BE8B-B1FDF828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594D-BA66-468B-AD20-A4420160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3B3-D11C-4DD8-831D-C20AE3B9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147B-F16C-4AE0-BC88-B45D6CB0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CFEF-7229-4E8B-B573-320DFDF0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98F1-DA52-4E63-B93C-303B58C2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4749-A35B-4C4A-AE9C-C170D5B5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497D-E2FA-4D3A-BCC5-BC38DBF6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635E-CF58-4412-95EB-63FC0E9E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D4A1-079E-449C-B14B-8BF97090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AF96-EE1F-47E7-84C7-8F2ED229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E51-9D63-467A-A17A-4F5AA33C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B71-052E-4311-AC80-D84AF14E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C9BA-E1ED-471E-91CF-B78B0055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5DE9-D056-4A84-BCF6-607EB136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33EF-B385-45EE-B9CC-D9AE8A5634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712D-AC0F-4E62-98B7-021E8F4DEF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ompchomp.com/terms/subordinateclause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rammar bla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ordinate 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es not express a complete thought and cannot stand alone as a sentence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chompchomp.com/terms/subordinateclause.ht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e comma ru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subordinate clause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rst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llows the last word in the cl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1980720"/>
            <a:ext cx="236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hetorical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38052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po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es the author want the audi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hink or do after seeing or hearing this piece of writ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the situation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go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aroun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 and/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udienc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629400" y="5257800"/>
            <a:ext cx="220968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whom is this piece of writing addressed?  What bias does this person or group hav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85800" y="5181480"/>
            <a:ext cx="259092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is the writer or speaker? What opinion does this person hav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828800" y="1219320"/>
            <a:ext cx="5410080" cy="39621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ryl needs to convince her mother of the need for the family to have a cell phone.  Cheryl,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auth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of the opinion that the cell phone is a necessity.  Her goal, or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to talk her mother into purchasing the phone.  Her mother,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aud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as resisted purchasing for two years but needs to be educated on the low cost, convenience, and usefulness of the phone in emergencies.  The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ontex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ulture in which cell phones have become the no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33560" y="380520"/>
            <a:ext cx="198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2209680" y="1219320"/>
            <a:ext cx="4648320" cy="46479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809880" y="3962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781680" y="5867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14300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icket out the do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ummary of our lesson using a subordinate cl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finition essay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definition prompts and decide on context, audience, and 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hetori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 of writing and speaking effective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 options for organizing your rhetor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/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sent what the term is vs. what it isn’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838080" y="457200"/>
            <a:ext cx="7391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/contra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assificatio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vote each body paragraph to subdivisions of the term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example, an essay on love could be devoted to platonic, religious, romantic, and familial love as long as the ideas support the thesi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r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the focal point of the essay to be a story in support of the thesis but be sure to include several other strate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emplification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example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the extended definition by observations, experiences and media support (quotations, movies, readings, and TV show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thods of develop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ative langu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ve is like a rose in summer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s/readings/experienc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tions/ other me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ve is a four letter word which has the power to change lives, according to Dr. Phil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ymology (history and use of the wor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ncients believed love came from the he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and cont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ve may be beautiful, but it can also be painful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ve is only one of several emotions we don’t entirely understand scientifical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ctionary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ve is defined a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 and effects of the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ffect of love on teenagers i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23:32:45Z</dcterms:created>
  <dc:creator>Pat Caskie</dc:creator>
  <dc:description/>
  <dc:language>en-US</dc:language>
  <cp:lastModifiedBy>adamscp</cp:lastModifiedBy>
  <dcterms:modified xsi:type="dcterms:W3CDTF">2008-02-29T16:33:09Z</dcterms:modified>
  <cp:revision>10</cp:revision>
  <dc:subject/>
  <dc:title>What is rhetoric?</dc:title>
</cp:coreProperties>
</file>